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10.png" ContentType="image/pn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FA6-4AE7-4EC5-BCAA-5614FEE4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78D-09D6-46CB-94E4-D905D90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CE3-23EE-4C52-8833-E279A22E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FA0-BEDD-40BF-B72E-D01B5665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79D-5CBF-4903-848F-EC6F2D13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948-7578-475B-B873-42D037DE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6E5-AC9C-4FE4-85B5-204270D8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01C-DECA-435D-B1C1-8AF213D1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349-AABF-46F4-9C33-1116A144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4BA-FD30-4568-889E-E8C8A9C1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C7D-B2F4-4AF2-9BB4-91713C03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F7A-A71D-4A94-9FBA-BF12B44F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D444-3C63-4559-B725-171CF151A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9e9e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171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учно-практическая работа 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«Связь спорта, молодёжи и политики в России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7600" y="3978000"/>
            <a:ext cx="5216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Times New Roman"/>
              </a:rPr>
              <a:t>Выполн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Times New Roman"/>
              </a:rPr>
              <a:t>Ученики 10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Times New Roman"/>
              </a:rPr>
              <a:t>Ульмаскулов Эрик Анва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Times New Roman"/>
              </a:rPr>
              <a:t>Чоросов Анатолий Чагы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Times New Roman"/>
              </a:rPr>
              <a:t>учитель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6"/>
                </a:solidFill>
                <a:latin typeface="Times New Roman"/>
              </a:rPr>
              <a:t>Воровская Анна Александров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-556704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51280" y="188640"/>
            <a:ext cx="3492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3.  Резкое омоложение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Многие виды спорта стали "молодеть", причем это обусловлено и феноменальными способностями молодых спортсмен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и запред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интенсифик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подготовки                                                     (продолжительность                                                                      тренировочных занятий                                          некоторых юных                                                         спортсменов доходит                                                                 до 5 - 8 ч интенсивного труда в день), психологической "накачкой", биологическими видами стимулирования, способами и формами материального соблазна, которые дают возможность "выжимать"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616720" cy="6337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10000">
    <p:strips dir="l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5876640"/>
            <a:ext cx="93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. Профессионализация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4b4b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фессионалом счит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ортсмен, для котор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орт является основ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идом трудов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 сам профессиональный спор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дставлен в совреме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ществе как разновид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изнеса, важная часть зрелищ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дустрии, одна из наи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тонченных форм коммер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ид предприниматель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еятельности, цель кото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лучение прибыли от продаж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релища спортивной борьбы. В последнее десятилетие в России активно развивается профессиональный спорт, расширяется практика заключения спортсменами контрактов для работы в зарубежных клу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300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10000">
    <p:strips dir="r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-5732280"/>
            <a:ext cx="133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64000" y="189000"/>
            <a:ext cx="3780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0ea00"/>
                </a:solidFill>
                <a:latin typeface="Times New Roman"/>
              </a:rPr>
              <a:t>5. Кризис олимп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0ea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f0ea00"/>
                </a:solidFill>
                <a:latin typeface="Times New Roman"/>
              </a:rPr>
              <a:t>Первым признаком кризиса олимпийского спорта является его коммерциализация, когда олимпийское движение начинает представлять  собой  "синтез спортивного шоу-бизнеса, технологии рекламы и публичной политики". Олимпийский спорт дистанцируется от массового (ординарного) спорта: бурный рост спортивных достижений в мире не согласуется с достижениями в физической подготовленности остальной части населения. При этом олимпийский спорт отвлекает на себя гигантские суммы бюд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113440" cy="6408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10000">
    <p:diamond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ff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-578304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565"/>
                </a:solidFill>
                <a:latin typeface="Times New Roman"/>
              </a:rPr>
              <a:t>6. Возникновение новых видов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(фристайл, шорт-трек, бодибилдинг, спортивная аэробика, синхронное плавание, дельтапланеризм, спортивный виндсерфинг и др.) и привлечение в сферу спорта новых соревновательных проя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48720" cy="4032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8000">
    <p:circl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d5d"/>
            </a:gs>
            <a:gs pos="100000">
              <a:srgbClr val="ff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-59479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27280" y="188640"/>
            <a:ext cx="6516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6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Приложени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Анк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Уважаемый сверстник! Просим тебя ответить на вопросы нашей анкеты. Для нас очень важно твоё мнение в отношении спорта и спортивной поли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1. Твой возра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2. Твой п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3. Ты занимаешься профессиональным спорт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4. Часто ли ты болееш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5. Есть ли у тебя хронические заболев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6. Какими видами спорта ты занимался или занимаешься сейча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7. Делаешь ли ты по утрам зарядк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8. Есть ли у тебя дома какой-нибудь спортивный инвентар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9. Как часто ты им пользуешь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10. Как ты проводишь время после занят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11. Ты следишь за проведением Олимпийских иг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12. Ты хотел бы участвовать в Олимпийских игр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13. Как ты думаешь, спорт – это стиль жизни или бизнес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14. Как, по твоему мнению, политика России влияет на спор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15. Почему молодежь стремится попасть в профессиональный спор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16. Продолжи фразу «Спорт – это…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Спасибо, что искренне ответил на наши вопрос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10000"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9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2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5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1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7" dur="5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0" dur="5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3" dur="5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6" dur="5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9" dur="5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2" dur="500"/>
                                        <p:tgtEl>
                                          <p:spTgt spid="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5" dur="500"/>
                                        <p:tgtEl>
                                          <p:spTgt spid="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7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4" dur="500"/>
                                        <p:tgtEl>
                                          <p:spTgt spid="7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-5884560"/>
            <a:ext cx="79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8275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Приложе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Приоритетные виды спорт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2997720"/>
            <a:ext cx="39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1 – спорт с мячом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4 – пла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2 – единоборства;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5 – лыж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3 – танцы;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6 – стрель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ll dir="lu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9e9e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-5876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3940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Приложение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Дос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2355480"/>
            <a:ext cx="345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 – спорт;                                   4 – ничем не  заним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2 – компьютер;                      5 – рис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3 – встречи с друзь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1780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Приложение 4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Спорт – эт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2708280"/>
            <a:ext cx="303516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1 – здоровье;                              3 – сила и крас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 – затруднились ответить;       4 – день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Приложение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1341360"/>
          <a:ext cx="8280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7000">
    <p:push dir="u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иложение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476280"/>
          <a:ext cx="7848360" cy="35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4836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84360" y="4021200"/>
            <a:ext cx="813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тлетическая гимнастика            10. мини – фут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окс                                                     11. аэроб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орьба вольная                                 12. пулевая стрел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аскетбол                                         13. лыжные го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олейбол                                           14. катание на конь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зюдо                                                15. хокке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ра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рате кёкусинк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настольный тенн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Физическая активность напрямую связана с деятельностью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71280" y="7245360"/>
            <a:ext cx="7128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300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5000"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76480" y="18864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333000"/>
            <a:ext cx="403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d600"/>
                </a:solidFill>
                <a:latin typeface="Times New Roman"/>
              </a:rPr>
              <a:t>Установлено с очевидной бесспорностью одно: первая известная нам Олимпиада древности проходила в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776 </a:t>
            </a:r>
            <a:r>
              <a:rPr b="1" i="1" lang="en-US" sz="3600" spc="-1" strike="noStrike">
                <a:solidFill>
                  <a:srgbClr val="dbd600"/>
                </a:solidFill>
                <a:latin typeface="Times New Roman"/>
              </a:rPr>
              <a:t>г. до нашей эры.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859280" cy="6337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6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75280" y="-588456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Зачатки ушу возникли раньше китайской государственности, но до IV—III в. До н.э. еще не было систем (школ) ушу, была лишь подготовка воинов, «воинское ремесл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ервоначально оно имело вид танцевально-боевых упражнений, а позже приобрело статус военизированной учебной дисциплины в специальных учебных завед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3888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10000">
    <p:cover dir="l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5d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-59259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Вокруг рыцарей, которых одни называют неустрашимыми воинами, преданными вассалами, защитниками слаб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благородными слугами прекрасных дам, галантными кавалерами вертелась, в сущности история европейского средневековья, потому что они в те времена были единственной реальной сил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3671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10000">
    <p:cover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565"/>
            </a:gs>
            <a:gs pos="100000">
              <a:srgbClr val="ff43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58845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К основным тенденциям развития физического воспитания в период между I и II мировыми войнами следует отнести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1) дальнейшее развитие и становление олимпийского движения, совершенствование его организационной структуры и олимпийской программы, расширение географии олимпийски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2) возникновение политических партий способствую развитию международного рабочего спортивного движения, организации и проведению Всемирных рабочих Олимпи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3) милитаризация спортивно-гимнастического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4) распространение новых систем и методов, направленных на повышение вневойсковой военно-физической подготовки молоде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Современные тенденции развития спорта.</a:t>
            </a:r>
            <a:br>
              <a:rPr sz="4400"/>
            </a:br>
            <a:br>
              <a:rPr sz="20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В последнее время появилось достаточно большое количество работ, в которых оценивается состояние современного спорта. Их анализ позволяет выявить следующие основные тенденции в развитии спорта, наблюдаемые в последнее десятиле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7245360"/>
            <a:ext cx="82440" cy="1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l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b4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-584496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Значительный рост спортивных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Это связано с целым рядом факторов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1 - с внедрением новых методов тренировки, которые отличаются большей эффективностью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2 - с изменением условий проведения соревнований, совершенствованием инвентаря, оборудования спортивной экипировк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99"/>
                </a:solidFill>
                <a:latin typeface="Times New Roman"/>
              </a:rPr>
              <a:t>3 - со значительным увеличением объемов тренировочной работы (за последние тридцать лет - более чем вдвое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99"/>
                </a:solidFill>
                <a:latin typeface="Times New Roman"/>
              </a:rPr>
              <a:t>4 - с использованием новых приемов повышения работоспособности (психологической и физиологической направленности), созданием новых фармакологических средств восстановления спортсменов; общеизвестно, что понятие "спортивное соревнование" помимо соревновательной деятельности самих спортсменов охватывает соучастие в состязании, конкуренцию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заинтересованных лиц (тренеров, представителей спортивной науки и др.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5 - с экономическими стимулами соревнований. В 90-е годы мы стали свидетелями того, что призовой фонд многих соревнований резко возрос в основном благодаря привлечениям негосударственных ассигнований, спонсорских средств, рекламы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17000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f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-5876640"/>
            <a:ext cx="777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2. Значительное удорожание спортивных соревнований, обусловленно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- повышением требований к условиям их проведения (базам, инвентарю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- появлением и развитием видов спорта, имеющих в своей основе дорогостоящую предметн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- увеличением представительности и расширением программы проводимых соревн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- повышением требований к организационному, судейскому, врачебному и информационному обесп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Кроме того, требуются значительные средства для проведения отбора и подготовки спортсменов, для обеспечения системы подготовки кадров, финансирования спортивной науки, медицин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p:transition advTm="10000">
    <p:wheel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7:37:36Z</dcterms:created>
  <dc:creator>777</dc:creator>
  <dc:description/>
  <dc:language>en-US</dc:language>
  <cp:lastModifiedBy>777</cp:lastModifiedBy>
  <dcterms:modified xsi:type="dcterms:W3CDTF">2008-01-27T11:08:39Z</dcterms:modified>
  <cp:revision>2</cp:revision>
  <dc:subject/>
  <dc:title>Научно-практическая работа  «Связь спорта, молодёжи и политики в России.»</dc:title>
</cp:coreProperties>
</file>